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1BBA-E89A-494A-B7F1-369EF61774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8A11-D015-443C-BC6E-7BEAA18956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3C0A-D871-4D3A-9279-7F113581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D234-D13A-4090-9B23-8FC7E6B0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6AB1-55C1-43F4-8F8E-968F8FB8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4323-B84A-42D3-B5A9-B547D9C7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A7FA-9CBA-4F70-935C-34822338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A6FB-1DB3-4052-807A-E486AC81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EA52-76EF-45F9-8F50-4E345176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488A-A3F7-4977-94B5-A17C25D0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E0A7-A9EF-4C31-965A-F3A28038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7845-8EDF-495E-966D-78869737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8B4D-75EA-4A8D-AF55-1E013B4F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899A-FA08-4A61-AE04-51A6D53C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9A33-2F8D-4B6E-AB78-110CBD697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"/>
          <p:cNvSpPr/>
          <p:nvPr/>
        </p:nvSpPr>
        <p:spPr>
          <a:xfrm>
            <a:off x="5553000" y="1117440"/>
            <a:ext cx="787320" cy="1068480"/>
          </a:xfrm>
          <a:prstGeom prst="rect">
            <a:avLst/>
          </a:prstGeom>
          <a:gradFill rotWithShape="0">
            <a:gsLst>
              <a:gs pos="0">
                <a:srgbClr val="e7e6e6"/>
              </a:gs>
              <a:gs pos="100000">
                <a:srgbClr val="d0cec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Овал 6"/>
          <p:cNvGrpSpPr/>
          <p:nvPr/>
        </p:nvGrpSpPr>
        <p:grpSpPr>
          <a:xfrm>
            <a:off x="5878440" y="4199040"/>
            <a:ext cx="268200" cy="298440"/>
            <a:chOff x="5878440" y="4199040"/>
            <a:chExt cx="268200" cy="298440"/>
          </a:xfrm>
        </p:grpSpPr>
        <p:pic>
          <p:nvPicPr>
            <p:cNvPr id="50" name="Овал 6" descr=""/>
            <p:cNvPicPr/>
            <p:nvPr/>
          </p:nvPicPr>
          <p:blipFill>
            <a:blip r:embed="rId1"/>
            <a:stretch/>
          </p:blipFill>
          <p:spPr>
            <a:xfrm>
              <a:off x="5878440" y="4199040"/>
              <a:ext cx="26820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930640" y="4254840"/>
              <a:ext cx="1695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" name="Прямоугольник 7"/>
          <p:cNvSpPr/>
          <p:nvPr/>
        </p:nvSpPr>
        <p:spPr>
          <a:xfrm>
            <a:off x="6691320" y="987480"/>
            <a:ext cx="4699080" cy="571320"/>
          </a:xfrm>
          <a:custGeom>
            <a:avLst/>
            <a:gdLst/>
            <a:ahLst/>
            <a:rect l="l" t="t" r="r" b="b"/>
            <a:pathLst>
              <a:path w="4699636" h="571500">
                <a:moveTo>
                  <a:pt x="0" y="0"/>
                </a:moveTo>
                <a:lnTo>
                  <a:pt x="4699636" y="0"/>
                </a:lnTo>
                <a:lnTo>
                  <a:pt x="4126430" y="571500"/>
                </a:lnTo>
                <a:lnTo>
                  <a:pt x="573206" y="57150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5659560" y="2409840"/>
            <a:ext cx="1068120" cy="1576440"/>
          </a:xfrm>
          <a:prstGeom prst="rect">
            <a:avLst/>
          </a:prstGeom>
          <a:gradFill rotWithShape="0">
            <a:gsLst>
              <a:gs pos="0">
                <a:srgbClr val="e7e6e6"/>
              </a:gs>
              <a:gs pos="100000">
                <a:srgbClr val="d0cec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Овал 16"/>
          <p:cNvGrpSpPr/>
          <p:nvPr/>
        </p:nvGrpSpPr>
        <p:grpSpPr>
          <a:xfrm>
            <a:off x="5840280" y="4703760"/>
            <a:ext cx="268560" cy="298440"/>
            <a:chOff x="5840280" y="4703760"/>
            <a:chExt cx="268560" cy="298440"/>
          </a:xfrm>
        </p:grpSpPr>
        <p:pic>
          <p:nvPicPr>
            <p:cNvPr id="55" name="Овал 16" descr=""/>
            <p:cNvPicPr/>
            <p:nvPr/>
          </p:nvPicPr>
          <p:blipFill>
            <a:blip r:embed="rId3"/>
            <a:stretch/>
          </p:blipFill>
          <p:spPr>
            <a:xfrm>
              <a:off x="5840280" y="4703760"/>
              <a:ext cx="26856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891040" y="4757760"/>
              <a:ext cx="171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" name="Овал 17"/>
          <p:cNvGrpSpPr/>
          <p:nvPr/>
        </p:nvGrpSpPr>
        <p:grpSpPr>
          <a:xfrm>
            <a:off x="5840280" y="5118120"/>
            <a:ext cx="268560" cy="304560"/>
            <a:chOff x="5840280" y="5118120"/>
            <a:chExt cx="268560" cy="304560"/>
          </a:xfrm>
        </p:grpSpPr>
        <p:pic>
          <p:nvPicPr>
            <p:cNvPr id="58" name="Овал 17" descr=""/>
            <p:cNvPicPr/>
            <p:nvPr/>
          </p:nvPicPr>
          <p:blipFill>
            <a:blip r:embed="rId4"/>
            <a:stretch/>
          </p:blipFill>
          <p:spPr>
            <a:xfrm>
              <a:off x="5840280" y="5118120"/>
              <a:ext cx="26856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891040" y="5176800"/>
              <a:ext cx="171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Овал 18"/>
          <p:cNvGrpSpPr/>
          <p:nvPr/>
        </p:nvGrpSpPr>
        <p:grpSpPr>
          <a:xfrm>
            <a:off x="5840280" y="5549760"/>
            <a:ext cx="268560" cy="304920"/>
            <a:chOff x="5840280" y="5549760"/>
            <a:chExt cx="268560" cy="304920"/>
          </a:xfrm>
        </p:grpSpPr>
        <p:pic>
          <p:nvPicPr>
            <p:cNvPr id="61" name="Овал 18" descr=""/>
            <p:cNvPicPr/>
            <p:nvPr/>
          </p:nvPicPr>
          <p:blipFill>
            <a:blip r:embed="rId5"/>
            <a:stretch/>
          </p:blipFill>
          <p:spPr>
            <a:xfrm>
              <a:off x="5840280" y="5549760"/>
              <a:ext cx="268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891040" y="5611680"/>
              <a:ext cx="1717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Прямоугольник 4"/>
          <p:cNvSpPr/>
          <p:nvPr/>
        </p:nvSpPr>
        <p:spPr>
          <a:xfrm rot="16200000">
            <a:off x="265680" y="3371040"/>
            <a:ext cx="5532480" cy="571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5"/>
          <p:cNvSpPr/>
          <p:nvPr/>
        </p:nvSpPr>
        <p:spPr>
          <a:xfrm rot="16200000">
            <a:off x="-2284920" y="3444120"/>
            <a:ext cx="5532480" cy="5716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14"/>
          <p:cNvSpPr/>
          <p:nvPr/>
        </p:nvSpPr>
        <p:spPr>
          <a:xfrm>
            <a:off x="7061040" y="2509920"/>
            <a:ext cx="4361040" cy="3825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9"/>
          <p:cNvSpPr/>
          <p:nvPr/>
        </p:nvSpPr>
        <p:spPr>
          <a:xfrm>
            <a:off x="3699000" y="1185840"/>
            <a:ext cx="1760400" cy="4960800"/>
          </a:xfrm>
          <a:prstGeom prst="rect">
            <a:avLst/>
          </a:prstGeom>
          <a:gradFill rotWithShape="0">
            <a:gsLst>
              <a:gs pos="0">
                <a:srgbClr val="deebf7"/>
              </a:gs>
              <a:gs pos="100000">
                <a:srgbClr val="b5d2ec"/>
              </a:gs>
            </a:gsLst>
            <a:lin ang="0"/>
          </a:gra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2"/>
          <p:cNvSpPr/>
          <p:nvPr/>
        </p:nvSpPr>
        <p:spPr>
          <a:xfrm flipH="1" flipV="1">
            <a:off x="873720" y="1193760"/>
            <a:ext cx="1795320" cy="4960800"/>
          </a:xfrm>
          <a:prstGeom prst="rect">
            <a:avLst/>
          </a:prstGeom>
          <a:gradFill rotWithShape="0">
            <a:gsLst>
              <a:gs pos="0">
                <a:srgbClr val="deebf7"/>
              </a:gs>
              <a:gs pos="100000">
                <a:srgbClr val="b5d2ec"/>
              </a:gs>
            </a:gsLst>
            <a:lin ang="0"/>
          </a:gra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6T11:47:04Z</dcterms:created>
  <dc:creator/>
  <dc:description/>
  <dc:language>en-US</dc:language>
  <cp:lastModifiedBy>XTreme.ws</cp:lastModifiedBy>
  <dcterms:modified xsi:type="dcterms:W3CDTF">2015-01-19T20:10:39Z</dcterms:modified>
  <cp:revision>24</cp:revision>
  <dc:subject/>
  <dc:title>Презентация PowerPoint</dc:title>
</cp:coreProperties>
</file>